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9F2-31FF-4A41-BE70-47CBCC1108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BF53-9DB3-4789-80FD-AFF4E3F45F1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4DCD-5F79-4F2E-96A3-057F475466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AC2-137D-4768-938B-8DF02B2A478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AA48-9E01-4A72-9107-B04950F674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7B42-9381-45FC-A1AD-1E616FF81FB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1D7-C4C8-4319-B379-2EB693D421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C80F-E36B-4A4C-8DF0-38614492D3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582-065E-4FBC-8F3F-CF3E0C9864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C97A-17D0-4BAD-885C-ED6E7531B6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0B21-EB70-489B-AFF8-3ECFB62E7BF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635-F619-4BE5-8703-18BCE6E9F36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807-E920-4B84-8357-A859E2A8C5F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6D97-47A1-4748-813D-D067D67D3B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D95-1242-4B60-A80C-9D237E53B1F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E779-EB27-4A95-84D8-CA1195CB795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BE20-5424-4FD3-B9B5-FA607BCF4ED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223B-7E72-460D-8EB9-0FB449AAFB1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42D5-DD37-493E-A7A4-A46D1AF2449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4A33-9119-458A-BAC7-5BD783C3A5F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00520" y="928368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215-D82E-48AD-9A24-5D1A1B775FE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29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9960" y="4641480"/>
            <a:ext cx="5369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EDC-D6D4-484A-A954-82B18816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68C-A8B2-427D-B858-E7087C8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13B-4961-4760-AAF4-9205E95E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00A-A7F5-4CC1-89BA-F320EC20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194-DB85-4EF6-AB12-01216A3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7E0-8243-4750-913A-4AA67A31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C31-008A-4778-9A42-18E36B44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DC7-D3E4-41EE-94E3-5E43E76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AD2-D794-4FF5-AFA4-8D21420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55E-4F7B-4476-AC36-1FD55421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1FF-8CA7-42BD-B5DC-F6657C83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5DE-DD07-47EC-A253-B65C145E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A703-2B33-4E30-8CF1-98382C8445F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56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Šta je esej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atak pisani rad koji na celovit način obradjuje neku odabranu temu, i u kojem je jasno iskazano stanovište aut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našem slučaju, radi se o pisanom radu koji se oslanja na predmet “gradjena sredina”, na neposredna iskustva urbane svakodnev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posredna iskustva iz drugih izvora (knjige, časopisi, internet, fil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Zašto esej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sej u obrazovanju  pospešuje proces učenja novih stvari i njihovog povezivanja, čini proces mišljenja transparentnim i razvija samostalnost, sistematičnosti i kreativn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o veština, esej zaokružuje osposobljenost za komunikaciju (crtežom - slikom, tekstom i živom reči) u oblasti arhitektur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A. Uvod…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potrebn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Definisati temu (problem, pitanj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bjasniti šta ćete raditi i sa kojim ciljem (zaš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3.    Objasniti kako ćete to uradi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struk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730360" y="63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. Razrad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o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vilu u 3 dela ili poglavlja) sadr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ikaz slučaj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..“sli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stvari”, Postavite širu scenu u okviru koje egzistira SLUČAJ (prostorno, vremenski, ..), i zatim prikažite slučaj (od opšteg ka posebnom, sa različitih aspekata, a posebno sa vašeg aspekta, tj. teme..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tudija...analiz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..“Vaš prilog o toj stvari”, izdvajanje, karakteristike, analiza, struktuiranje i poredjenje, posebne relacije koje želite da uspostavite ili naglasite (usmeravanje na poentu, na težišnu ideju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struk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730360" y="63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“Verifikacija”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povezuje se prethodni tekst i izlaže se ono što je suš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studije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Razmatranja (šta je studija pokazala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osebno poenta ili osnovna tema koja se izdvaja kao ključna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 na relaciji odnosa prvog i drugog del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svrt na one osobenosti koje karakterišu, tj. izdvajaju slučaj, ali i one koje ga povezuju sa drugim slučajevima iste vrs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struk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. Zaključak…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stavl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Vraćanje na uvod, sažimanje rezultata razrade i u kontekst teme navedene u uvod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. Zaključkom se svode rezultati evolucije ideje, izložene studi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pomen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Tokom pisanja rada, treba biti spreman na promene u uvodu i zaključku, pa i samoj temi. Retki su oni koji završavaju esej sa istom idejom sa kojom su ga započeli, budite fleksibilni, popustite logici. Radi toga, uvod se često ponovo piše nakon zaključ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struk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asus / poglavlje…. Veli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asus (ili poglavlje, u zavisnosti od dužine eseja), predstavlja celovitu misao, problem, aspekt, argument i sl. kojim se postupno razvija tema eseja (obrazlaže, analizira, zaključuj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reobimni pasus usporava tok izlaganja, otežava čitljivost teme, zamara i zbunjuje čitao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uviše sažet pasus nema dovoljno prostora da obrazloži temu, da je po potrebi reinerpretira, razvije, i u celini razradi. Čitanje je tada dinamično ali suviše nabijeno brojnim informacija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asus / poglavlje… Struk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četak (paragrafa, poglavlja) uvodi nas u predm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ledi razrada (od opšteg ka posebnom, po značaju argumentacije i / ili nekim drugim prepoznatljivim redom), koja obrazlaže ideju vodilju (ključnu reč u pasusu), razlaže je ili na neki drugi način obrađu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 kraju sledi tekst koji se po pravilu oslanja na uvodnu rečenicu / ideju vodilju, sažima stvari i donosi zaključak do kojeg se došlo u razra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asus / poglavlje… Struktur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što se pisanjem sukcesivno, korak po korak, dolazi do željenog cilja, ovi koraci moraju biti međusobno logički povezani tako da se rečenice, paragrafi ili poglavlja oslanjaju na prethodne i formiraju osnovu za one naredn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kretanje sa glavnog toka treba da bude jasno prepoznatljivo i opravdano, ali osnovna priča mora ostati dominant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3840" y="11970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Šta je čije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 tekstu mora biti jasno šta je vaš originalni stav, a šta stav nekog drugog autora (sa navedenim izvorom).  Druge autore možete citirati, prepričati ili slobodnije interpretirati, ali uvek mora biti jasno o čijem se tekstu ra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Obraćanj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Tradicionalno je da govorite u prvom licu množine (...smatramo) o stvarima koje, kao da radite zajedno sa čitaocem, a u prvom licu jednine (...smatram) o stvarima koje lično radite, povezujete, misl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Alternativa je pisati bezl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čno (...smatra s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3840" y="11970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eči i pojm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 adekvatnom izboru reči i pojmova počiva kompletan esej.  Tražite sistematski i bez žurbe pravu reč (koristite rečnike, enciklopedije, tekstove srodnih disciplina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jmovi koje koristite moraju biti adekvatno uportrebljeni i moraju vam biti kristalno jasni. Dobro je posebno definisati osnovne pojmove na koje se oslanja ese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emoje pisati ono što ne razumete. Trebalo bi, naime, da znate više nego što ste napisal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a ne manj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78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Crteži / slike / š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sej nije slikovnica. Slika prati i obrazlaže tekst, ona ga ilustruje (može biti i tema eseja), ali ga ne može zameniti. Ni slika ni reč u nekom eseju nisu ukrasi već sredstva komunikacij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rafički prilozi moraju da budu eksplicitni (da jasno ukazuju na ideju radi koje su prikazani), a ne implicitni (da indirektno i zajedno sa nizom drugih poruka ukazuju na ono o čemu se govor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Jedna slika sadržajnija je od hiljadu reči, pa se baš radi toga ona mora svoditi na temu o kojoj govorimo (crtež preko fotografije, šema umesto slik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elemen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jna grupa kojoj se ob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ćamo je akademska javnost (naučnici, istraživači, profesori i studenti.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kle, pišemo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kademski ese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oji se može shvatiti i kao nešto slobodnija forma istraživačkog ili naučnog rada sa naglašenim ličnim stavom o temi koja se obrađ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m osnovnog teksta, ne računajuči sadržaj,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ak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sažetak) i grafičke priloge, iznosi oko 3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0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e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rad i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slovnu stranicu (ime predmeta sa šifrom iz kurikuluma; školsku godinu; naslov eseja, ime, prezime i broj indeksa studenta; ime i prezime profesor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ranicu sa sadržajem i numerisanim stranica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pstrakt ili prikaz rada (150 do 200 reči) sa ključnim reči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ni tekst sa numerisanim celinama i podcelinama (1.0., 1.1, 2.0., 2.1.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isak izvora i literature (navođenje je u Harvard siste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kst je kuca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al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t.) na A4 formatu. Grafički prikazi prate tekst (najviše 50% rada). Sve je ukoričeno spiral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finalizaci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8730360" y="63752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Esej / pre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 se predaje u zakazanom terminu u kabinetu 3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priložiti odštampanu i potpisanu prezentaciju teme koju ste izlagali tokom predavanja (ukoliko ste je prezentov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ložiti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va primerka RIB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a ocenjivanj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 ispunjenim osnovnim poda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iložiti RIBA kurikulum predmeta preuzet sa saj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842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ademski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se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bave 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ma svrsi i uz moguće povezivanje i kombinova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s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lasifik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skripcij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redjenjem i razlikovanjem (utvrđivanje rel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kvencama / redosledom ili vezama u ni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aluacijom / vrednovanjem i izborom i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jašnjenjem (stanja, uzroka i posled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kademski eseji su analitički i/ili rasprav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alitički (usmereni na istraživačko pitanje ili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spravni (usmereni na dokazivanje ili osporavanje teze ili st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a osnovu če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abrati tem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kustvo stečeno tokom nast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stupne knjige, časopisi i ostali pisani iz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eneralno iskustv, afiniteti, osetljivost na odredjena pitanja, analitičko i kritičko mišljenje o stvarima, ranije ispoljena interesovanja i iskustva svakodn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pažanja sa terena – mogućnosti ciljanog terenskog istraživanja konkretnog sluč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 / pripr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ko razvijati temu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rospektiva rada i analiza iskustva u nasta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itanje / posmatranje (kritičko, usmere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spiracija / asocijacija, izlazak na t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ntalno pražnjenj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ainsto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obodno pisanj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reewri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azgovor / rasprava sa kolegama i sa lai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 / pripr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Esej, posebno akademski esej mora imati sasvim jasno izražen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trukt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adržaj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til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a stil se sastoji od jezika i od forme elabor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truktura eseja uslovljena je logikom i predstavlja vrstu matrice unutar koje se razvija kompletan sadržaj u skladu sa principima akademske komunikaci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vom prilikom prvenstveno govorimo o strukturi i jeziku, pošto se pitanja sadržaja ne mogu izložiti kao opšte mes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 / pripr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07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Izabrana tema je prihvatljiv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koliko je interesantna za one kojima se obrać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koliko raspolažete dovoljno dobrom osnovom za njenu obradu (pristup na terenu, izvori, literatura, razumevanje stvari i pojmova, jasan fok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koliko vas motiviše da radite i ukoliko se nalazi u užem krugu vaših interesov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Ukoliko se može uklopiti u zadati obim teksta o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3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50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reč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5050"/>
                </a:solidFill>
                <a:latin typeface="Arial"/>
              </a:rPr>
              <a:t>Esej / pripre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Naslov r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slov sadrž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osnovni predmet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slučaj) kojim se esej bavi,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 poentu studije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užu odrednicu, tezu, problem, relaciju, osobenost)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red naslova, osnovni sadržaj eseja prikazuje se i izborom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KLJUČNIH REČI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po nekom logičkom redosled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proces izra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Struktura rada / konstrukcija ese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lasičan petodelni esej ima sledeću struktur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. UVO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B. RAZRADU (najčešće u tri dela),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. ZAKLJUČA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0000"/>
                </a:solidFill>
                <a:latin typeface="Arial"/>
              </a:rPr>
              <a:t>Esej / struk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730000" y="637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1:26:51Z</dcterms:created>
  <dc:creator>Zoran Nikezic</dc:creator>
  <dc:description/>
  <dc:language>en-US</dc:language>
  <cp:lastModifiedBy>ALEKSANDRA</cp:lastModifiedBy>
  <dcterms:modified xsi:type="dcterms:W3CDTF">2014-01-26T20:19:09Z</dcterms:modified>
  <cp:revision>38</cp:revision>
  <dc:subject/>
  <dc:title>Esej / priprema</dc:title>
</cp:coreProperties>
</file>